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5801-D962-44A7-BD6D-796B0E149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06F3-5A96-4AA2-9311-11B90AAF212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0ABC-6C19-4B71-B805-812E28E9EE1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9A67-5297-4DCF-A1C6-ECBF0A28C09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3014-3B4C-488A-9D66-88824B3B6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ED1D-7E4B-4924-ACDD-110B65A8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D007-7A2E-416D-8250-F7B533D05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4239-8905-4DAA-A5BD-DB570D246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040C-57FF-41B9-837B-C4118375A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C694F-92DA-47F9-A099-23A464D4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A54B-C2BB-433F-A66A-FED57466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D4E5-AFE6-43EB-81DD-2A80A7CB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D7B1-A755-44D0-80F6-06360830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E289A-2A3D-4B29-BF2D-63CC41F3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DA773-DBF5-4B9D-944A-A11EBBEE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C695-46E1-48F2-BBA1-88BD99AC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FB9CD-A81E-47CA-AC18-FD1AFD64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9439-A45D-4A14-993A-977FAA21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1973-7077-49A3-8BED-541727F8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8D3C-04F6-4999-9CAB-A1875180B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F3C0-BB26-428D-B837-9E2982492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E276-DC25-48BE-A56F-75B10091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1098-8F09-4744-BE8C-7292776C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8B33-F616-46EA-A5BC-8FACFC81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0997-CF6A-4074-AEF0-538DE4CF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6422-5991-4C5B-9520-2889F2B6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7E90-807E-4A24-9166-234D8D49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5627-D8EE-486E-B068-B12E18D6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AC91-6486-4C6B-819B-E098A415D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619E-9C0D-42F4-8456-9505DDA622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epulchritude.com/chapelperilous/decollete/sansculotte/cockade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history.hanover.edu/texts/abolfeud.htm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ale.edu/lawweb/avalon/rightsof.htm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  <a:ea typeface="굴림"/>
              </a:rPr>
              <a:t>French Revolution Part III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The Great Changes: “Egalitarianism, Liberty , and Fraternity”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5" descr="cockade_th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819520"/>
            <a:ext cx="2057400" cy="19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  <a:ea typeface="굴림"/>
              </a:rPr>
              <a:t>The Reconstruction of France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Themes of focu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Constitutional monarchy in poli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Unregulated freedom in econom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Anticlericalism in relig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  <a:ea typeface="굴림"/>
              </a:rPr>
              <a:t>Nationalization of Church Land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Debt continu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No source of revenue for gov’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Church lands expropriated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Church failed to meet its oblig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10% of land in Fr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914400" y="380880"/>
            <a:ext cx="74674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00"/>
                </a:solidFill>
                <a:latin typeface="BlackChancery"/>
              </a:rPr>
              <a:t>How to Finance the New Govt.?</a:t>
            </a:r>
            <a:br>
              <a:rPr sz="4200"/>
            </a:br>
            <a:r>
              <a:rPr b="0" lang="en-US" sz="4200" spc="-1" strike="noStrike">
                <a:solidFill>
                  <a:srgbClr val="dc0000"/>
                </a:solidFill>
                <a:latin typeface="BlackChancery"/>
              </a:rPr>
              <a:t>1.</a:t>
            </a:r>
            <a:r>
              <a:rPr b="0" lang="en-US" sz="4200" spc="-1" strike="noStrike">
                <a:solidFill>
                  <a:srgbClr val="808000"/>
                </a:solidFill>
                <a:latin typeface="BlackChancery"/>
              </a:rPr>
              <a:t>  </a:t>
            </a:r>
            <a:r>
              <a:rPr b="0" lang="en-US" sz="3800" spc="-1" strike="noStrike">
                <a:solidFill>
                  <a:srgbClr val="808000"/>
                </a:solidFill>
                <a:latin typeface="BlackChancery"/>
              </a:rPr>
              <a:t>Confiscate Church Lands </a:t>
            </a:r>
            <a:r>
              <a:rPr b="0" lang="en-US" sz="3000" spc="-1" strike="noStrike">
                <a:solidFill>
                  <a:srgbClr val="808000"/>
                </a:solidFill>
                <a:latin typeface="BlackChancery"/>
              </a:rPr>
              <a:t>(1790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685800" y="56386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e of the most controversial decisions of the entire revolutionary perio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Picture 4" descr="Civil Constitution of the Clergy"/>
          <p:cNvPicPr/>
          <p:nvPr/>
        </p:nvPicPr>
        <p:blipFill>
          <a:blip r:embed="rId1"/>
          <a:stretch/>
        </p:blipFill>
        <p:spPr>
          <a:xfrm>
            <a:off x="3124080" y="2701800"/>
            <a:ext cx="4343400" cy="2556000"/>
          </a:xfrm>
          <a:prstGeom prst="rect">
            <a:avLst/>
          </a:prstGeom>
          <a:ln w="9360">
            <a:solidFill>
              <a:srgbClr val="dbbd7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3809880" y="380880"/>
            <a:ext cx="4648320" cy="14346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0000"/>
                </a:solidFill>
                <a:latin typeface="BlackChancery"/>
              </a:rPr>
              <a:t>2.</a:t>
            </a:r>
            <a:r>
              <a:rPr b="0" lang="en-US" sz="4400" spc="-1" strike="noStrike">
                <a:solidFill>
                  <a:srgbClr val="808000"/>
                </a:solidFill>
                <a:latin typeface="BlackChancery"/>
              </a:rPr>
              <a:t>  Print </a:t>
            </a:r>
            <a:r>
              <a:rPr b="0" i="1" lang="en-US" sz="4400" spc="-1" strike="noStrike">
                <a:solidFill>
                  <a:srgbClr val="808000"/>
                </a:solidFill>
                <a:latin typeface="BlackChancery"/>
              </a:rPr>
              <a:t>Assigna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Picture 3" descr="assignats3"/>
          <p:cNvPicPr/>
          <p:nvPr/>
        </p:nvPicPr>
        <p:blipFill>
          <a:blip r:embed="rId1"/>
          <a:stretch/>
        </p:blipFill>
        <p:spPr>
          <a:xfrm>
            <a:off x="609480" y="533520"/>
            <a:ext cx="2590920" cy="2342880"/>
          </a:xfrm>
          <a:prstGeom prst="rect">
            <a:avLst/>
          </a:prstGeom>
          <a:ln w="9360">
            <a:solidFill>
              <a:srgbClr val="dbbd71"/>
            </a:solidFill>
            <a:miter/>
          </a:ln>
        </p:spPr>
      </p:pic>
      <p:sp>
        <p:nvSpPr>
          <p:cNvPr id="194" name="Rectangle 4"/>
          <p:cNvSpPr/>
          <p:nvPr/>
        </p:nvSpPr>
        <p:spPr>
          <a:xfrm>
            <a:off x="1143000" y="5638680"/>
            <a:ext cx="7391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dc0000"/>
              </a:buClr>
              <a:buSzPct val="110000"/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bd71"/>
                </a:solidFill>
                <a:latin typeface="Tahoma"/>
              </a:rPr>
              <a:t>Issued by the National Constituent Assembl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buClr>
                <a:srgbClr val="dc0000"/>
              </a:buClr>
              <a:buSzPct val="110000"/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bd71"/>
                </a:solidFill>
                <a:latin typeface="Tahoma"/>
              </a:rPr>
              <a:t>Interest-bearing notes which had the church lands as securit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5" descr="printing assignats"/>
          <p:cNvPicPr/>
          <p:nvPr/>
        </p:nvPicPr>
        <p:blipFill>
          <a:blip r:embed="rId2"/>
          <a:stretch/>
        </p:blipFill>
        <p:spPr>
          <a:xfrm>
            <a:off x="5562720" y="2065320"/>
            <a:ext cx="2570040" cy="3040200"/>
          </a:xfrm>
          <a:prstGeom prst="rect">
            <a:avLst/>
          </a:prstGeom>
          <a:ln w="9360">
            <a:solidFill>
              <a:srgbClr val="dbbd71"/>
            </a:solidFill>
            <a:miter/>
          </a:ln>
        </p:spPr>
      </p:pic>
      <p:pic>
        <p:nvPicPr>
          <p:cNvPr id="196" name="Picture 6" descr="assignat1"/>
          <p:cNvPicPr/>
          <p:nvPr/>
        </p:nvPicPr>
        <p:blipFill>
          <a:blip r:embed="rId3"/>
          <a:srcRect l="2398" t="0" r="1599" b="1757"/>
          <a:stretch/>
        </p:blipFill>
        <p:spPr>
          <a:xfrm>
            <a:off x="1219320" y="3124080"/>
            <a:ext cx="3276360" cy="2293920"/>
          </a:xfrm>
          <a:prstGeom prst="rect">
            <a:avLst/>
          </a:prstGeom>
          <a:ln w="9360">
            <a:solidFill>
              <a:srgbClr val="dbbd7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1066680" y="228600"/>
            <a:ext cx="7137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808000"/>
                </a:solidFill>
                <a:latin typeface="BlackChancery"/>
              </a:rPr>
              <a:t>Depreciation of the </a:t>
            </a:r>
            <a:r>
              <a:rPr b="0" i="1" lang="en-US" sz="4500" spc="-1" strike="noStrike">
                <a:solidFill>
                  <a:srgbClr val="808000"/>
                </a:solidFill>
                <a:latin typeface="BlackChancery"/>
              </a:rPr>
              <a:t>Assignat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3" descr="assignats depreciatiochart-"/>
          <p:cNvPicPr/>
          <p:nvPr/>
        </p:nvPicPr>
        <p:blipFill>
          <a:blip r:embed="rId1"/>
          <a:srcRect l="0" t="13563" r="0" b="0"/>
          <a:stretch/>
        </p:blipFill>
        <p:spPr>
          <a:xfrm>
            <a:off x="3352680" y="1638360"/>
            <a:ext cx="3505320" cy="1888920"/>
          </a:xfrm>
          <a:prstGeom prst="rect">
            <a:avLst/>
          </a:prstGeom>
          <a:ln w="9360">
            <a:solidFill>
              <a:srgbClr val="dbbd71"/>
            </a:solidFill>
            <a:miter/>
          </a:ln>
        </p:spPr>
      </p:pic>
      <p:sp>
        <p:nvSpPr>
          <p:cNvPr id="199" name="Rectangle 4"/>
          <p:cNvSpPr/>
          <p:nvPr/>
        </p:nvSpPr>
        <p:spPr>
          <a:xfrm>
            <a:off x="1066680" y="3657600"/>
            <a:ext cx="731520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buClr>
                <a:srgbClr val="dc0000"/>
              </a:buClr>
              <a:buSzPct val="110000"/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bbd71"/>
                </a:solidFill>
                <a:latin typeface="Tahoma"/>
              </a:rPr>
              <a:t>Whoever acquired them were entitled to certain privileges in the purchase of church land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buClr>
                <a:srgbClr val="dc0000"/>
              </a:buClr>
              <a:buSzPct val="110000"/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bbd71"/>
                </a:solidFill>
                <a:latin typeface="Tahoma"/>
              </a:rPr>
              <a:t>The state would retire the notes as the land was sold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buClr>
                <a:srgbClr val="dc0000"/>
              </a:buClr>
              <a:buSzPct val="110000"/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bbd71"/>
                </a:solidFill>
                <a:latin typeface="Tahoma"/>
              </a:rPr>
              <a:t>They began circulating as paper currency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lvl="1" marL="853920" indent="-274320">
              <a:lnSpc>
                <a:spcPct val="100000"/>
              </a:lnSpc>
              <a:buClr>
                <a:srgbClr val="808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bd71"/>
                </a:solidFill>
                <a:latin typeface="Tahoma"/>
              </a:rPr>
              <a:t>Government printed more </a:t>
            </a:r>
            <a:r>
              <a:rPr b="0" lang="en-US" sz="2000" spc="-1" strike="noStrike">
                <a:solidFill>
                  <a:srgbClr val="dbbd71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dbbd71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dc0000"/>
                </a:solidFill>
                <a:latin typeface="Tahoma"/>
              </a:rPr>
              <a:t>INFLATION</a:t>
            </a:r>
            <a:r>
              <a:rPr b="0" lang="en-US" sz="2000" spc="-1" strike="noStrike">
                <a:solidFill>
                  <a:srgbClr val="dbbd71"/>
                </a:solidFill>
                <a:latin typeface="Tahoma"/>
              </a:rPr>
              <a:t> [they lost 99% of their value ultimately]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53920" indent="-274320">
              <a:lnSpc>
                <a:spcPct val="100000"/>
              </a:lnSpc>
              <a:buClr>
                <a:srgbClr val="808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bd71"/>
                </a:solidFill>
                <a:latin typeface="Tahoma"/>
              </a:rPr>
              <a:t>Therefore, future governments paid off their creditors with cheap mone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  <a:ea typeface="굴림"/>
              </a:rPr>
              <a:t>Part III 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Changes of the Revolution (continue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  <a:ea typeface="굴림"/>
              </a:rPr>
              <a:t>Political Reorganiza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Constitutional monarch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Unicameral legisla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Only men paying ta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Restructure of legal sys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National Constituent Assembly becomes Legislative Assembly (1791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Parliament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457200" y="189000"/>
            <a:ext cx="7924680" cy="6669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  <a:ea typeface="굴림"/>
              </a:rPr>
              <a:t>Economic Polic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Guilds suppress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Metric system; uniform weights and meas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Chapelier Law: forbidding workers associ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Thus peasants and workers left to the freedom and mercy of the free mark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  <a:ea typeface="굴림"/>
              </a:rPr>
              <a:t>Civil Constitution of the Clerg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tate not Vatican contr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Elected and salaries paid by st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Oath of allegiance to French Gov’t not pop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Increased conflict between church and st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Church rejects liberalism and the Declaration of the Rights of M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1" name="Picture 8" descr="plate01"/>
          <p:cNvPicPr/>
          <p:nvPr/>
        </p:nvPicPr>
        <p:blipFill>
          <a:blip r:embed="rId1"/>
          <a:stretch/>
        </p:blipFill>
        <p:spPr>
          <a:xfrm>
            <a:off x="4648320" y="1828800"/>
            <a:ext cx="4495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  <a:ea typeface="굴림"/>
              </a:rPr>
              <a:t>Chang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Louis XVI wears the revolutionary cockade and visits Paris. July 16, 1789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Order in country is los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National guards for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Intendant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 (agents of the crown) qu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Parlement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 (courts) were dissolv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Revolutionary spirit spread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5" descr="louis10"/>
          <p:cNvPicPr/>
          <p:nvPr/>
        </p:nvPicPr>
        <p:blipFill>
          <a:blip r:embed="rId1"/>
          <a:stretch/>
        </p:blipFill>
        <p:spPr>
          <a:xfrm>
            <a:off x="4876920" y="1600200"/>
            <a:ext cx="342252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  <a:ea typeface="굴림"/>
              </a:rPr>
              <a:t>Counter Revolutionary Activit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Émigré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– people that left in opposition to the rev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Count of Artois (1757-1836) king’s brot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Threats from abroad; Emperor Leopold of Austria (brother of Marie Antoinette), and Frederick William II of Pruss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1791 the King and family attempt escape at Varennes – brought back to Par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N.C.A. ends – Legislative Assembly Oct. 179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  <a:ea typeface="굴림"/>
              </a:rPr>
              <a:t>Great Fear  (20 July </a:t>
            </a:r>
            <a:r>
              <a:rPr b="0" lang="en-US" sz="4000" spc="-1" strike="noStrike">
                <a:solidFill>
                  <a:srgbClr val="dbbd71"/>
                </a:solidFill>
                <a:latin typeface="Tahoma"/>
                <a:ea typeface="굴림"/>
              </a:rPr>
              <a:t>–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  <a:ea typeface="굴림"/>
              </a:rPr>
              <a:t> 5 August, 1789) 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Peasants fear of aristocratic reprisals causes pan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Destroyed feudal records and other propert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Militias imposed law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6" descr="burning chateaux in the countryside"/>
          <p:cNvPicPr/>
          <p:nvPr/>
        </p:nvPicPr>
        <p:blipFill>
          <a:blip r:embed="rId1"/>
          <a:stretch/>
        </p:blipFill>
        <p:spPr>
          <a:xfrm>
            <a:off x="4191120" y="1457280"/>
            <a:ext cx="495288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  <a:ea typeface="굴림"/>
              </a:rPr>
              <a:t>Abolition of Feudalism (4</a:t>
            </a:r>
            <a:r>
              <a:rPr b="0" lang="en-US" sz="4000" spc="-1" strike="noStrike" baseline="30000">
                <a:solidFill>
                  <a:srgbClr val="dbbd71"/>
                </a:solidFill>
                <a:latin typeface="Arial"/>
                <a:ea typeface="굴림"/>
              </a:rPr>
              <a:t>th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  <a:ea typeface="굴림"/>
              </a:rPr>
              <a:t> August 1789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To quell the peasants aristocrats renounced all their privileg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Taxation based on inco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Property rights protected; 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ea typeface="굴림"/>
                <a:hlinkClick r:id="rId1"/>
              </a:rPr>
              <a:t>http://history.hanover.edu/texts/abolfeud.ht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Picture 5" descr="endofprivileges"/>
          <p:cNvPicPr/>
          <p:nvPr/>
        </p:nvPicPr>
        <p:blipFill>
          <a:blip r:embed="rId2"/>
          <a:stretch/>
        </p:blipFill>
        <p:spPr>
          <a:xfrm>
            <a:off x="5029200" y="1371600"/>
            <a:ext cx="3565440" cy="487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British Museum Picture"/>
          <p:cNvPicPr/>
          <p:nvPr/>
        </p:nvPicPr>
        <p:blipFill>
          <a:blip r:embed="rId1"/>
          <a:stretch/>
        </p:blipFill>
        <p:spPr>
          <a:xfrm>
            <a:off x="533520" y="762120"/>
            <a:ext cx="4217760" cy="5257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endofprivileges"/>
          <p:cNvPicPr/>
          <p:nvPr/>
        </p:nvPicPr>
        <p:blipFill>
          <a:blip r:embed="rId2"/>
          <a:stretch/>
        </p:blipFill>
        <p:spPr>
          <a:xfrm>
            <a:off x="5029200" y="1371600"/>
            <a:ext cx="35654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  <a:ea typeface="굴림"/>
              </a:rPr>
              <a:t>Declaration of the Rights of Man (26</a:t>
            </a:r>
            <a:r>
              <a:rPr b="0" lang="en-US" sz="4000" spc="-1" strike="noStrike" baseline="30000">
                <a:solidFill>
                  <a:srgbClr val="dbbd71"/>
                </a:solidFill>
                <a:latin typeface="Arial"/>
                <a:ea typeface="굴림"/>
              </a:rPr>
              <a:t>th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  <a:ea typeface="굴림"/>
              </a:rPr>
              <a:t> August 1789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English Bill of Rights &amp; American Declaration of Independ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Ultimate power would reside within the st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Louis XVI stalled on signing it; egalitarian element upset him/wanted veto pow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NCA wanted a limited veto (delay passage for 6 month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Key principles: civic equality and protection of proper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yale.edu/lawweb/avalon/rightsof.ht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7" descr="decl1789"/>
          <p:cNvPicPr/>
          <p:nvPr/>
        </p:nvPicPr>
        <p:blipFill>
          <a:blip r:embed="rId1"/>
          <a:stretch/>
        </p:blipFill>
        <p:spPr>
          <a:xfrm>
            <a:off x="2057400" y="380880"/>
            <a:ext cx="49579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  <a:ea typeface="굴림"/>
              </a:rPr>
              <a:t>The Bread Riots (5</a:t>
            </a:r>
            <a:r>
              <a:rPr b="0" lang="en-US" sz="4000" spc="-1" strike="noStrike" baseline="30000">
                <a:solidFill>
                  <a:srgbClr val="dbbd71"/>
                </a:solidFill>
                <a:latin typeface="Arial"/>
                <a:ea typeface="굴림"/>
              </a:rPr>
              <a:t>th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  <a:ea typeface="굴림"/>
              </a:rPr>
              <a:t> October 1789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Paris women upset with the price of bread protest (Les Halles Market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March to Versail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Louis orders gra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to Paris and sig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the Bill of Righ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Thus limiting his veto pow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9" descr="womensmarch"/>
          <p:cNvPicPr/>
          <p:nvPr/>
        </p:nvPicPr>
        <p:blipFill>
          <a:blip r:embed="rId1"/>
          <a:stretch/>
        </p:blipFill>
        <p:spPr>
          <a:xfrm>
            <a:off x="4038480" y="1371600"/>
            <a:ext cx="5105520" cy="2305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Forum des Halles sits on the site of Les Halles, a popular public market for many centuries. During the 14th to 16th century it was also used as a place for public executions and punishments. The beheadings were preceded by the customary methods of torture and followed by the unrelenting mutilation of the bodies in the streets."/>
          <p:cNvPicPr/>
          <p:nvPr/>
        </p:nvPicPr>
        <p:blipFill>
          <a:blip r:embed="rId2"/>
          <a:stretch/>
        </p:blipFill>
        <p:spPr>
          <a:xfrm>
            <a:off x="4495680" y="3962520"/>
            <a:ext cx="409572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  <a:ea typeface="굴림"/>
              </a:rPr>
              <a:t>Louis XVI’s error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After Bread Riot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Went with the mob to Par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Thus became effectively a prisoner in the Tuileries in Paris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Revolutionaries thus had real contr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Picture 6" descr="tuileries"/>
          <p:cNvPicPr/>
          <p:nvPr/>
        </p:nvPicPr>
        <p:blipFill>
          <a:blip r:embed="rId1"/>
          <a:stretch/>
        </p:blipFill>
        <p:spPr>
          <a:xfrm>
            <a:off x="685800" y="1676520"/>
            <a:ext cx="3807000" cy="30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00:51:51Z</dcterms:created>
  <dc:creator>Generic</dc:creator>
  <dc:description/>
  <dc:language>en-US</dc:language>
  <cp:lastModifiedBy>plouffeh</cp:lastModifiedBy>
  <dcterms:modified xsi:type="dcterms:W3CDTF">2008-02-11T19:59:41Z</dcterms:modified>
  <cp:revision>25</cp:revision>
  <dc:subject/>
  <dc:title>French Revolution Part III</dc:title>
</cp:coreProperties>
</file>